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1202D-4486-4BF5-AAF8-6230B33C8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332C7-A762-4038-AD0F-3E772BFB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307B9-2ECB-4A1B-AD30-59C3B208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CC18F-1545-4382-8759-8496F718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8449-45F2-45B9-A999-EF77F7A46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5633-6625-4C6B-8717-1AFF8019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8D6D-66D7-4CB8-9918-D051B62C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CD02-5F14-4B1A-AAE8-6889B697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EB2B-7F2C-4493-AB6E-1B842E87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B87F-1A7B-4F43-AF75-AF875661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BD5A-E3F5-40D0-997D-1EA873C7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BFD71-9E75-453D-BB26-16F9E597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2E74-65FD-4814-8A48-A5F54604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9894-4E83-4812-8E9F-24AFF913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1ED8-10E4-41B9-8089-5A9DECB2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ECDB-A625-4CA1-A27C-3AA08E88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BBF3-BD08-4CC1-9251-69E2F20A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097FA-A5A9-47BA-BAED-4498EAE8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8BFC5-4DF2-48B8-8B6B-8E19AFF0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0585A-D1A9-4770-9439-1F90583D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92989-DFB7-4E8C-9EEA-824AC74C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9054B-E9DA-489B-B918-33293DBB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33E21-21E7-4DC3-BC13-C9C2DF3E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E697C-BFC9-4CDA-AEF8-50CAB7CF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E623-EAE1-4C32-84DF-7C5F57FA3F6D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4103-F1C6-4BD1-AF73-4EA018F47843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00040"/>
            <a:ext cx="957744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ffffff"/>
                </a:solidFill>
                <a:latin typeface="Arial"/>
              </a:rPr>
              <a:t>270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bg-BG" sz="3000" spc="-1" strike="noStrike">
                <a:solidFill>
                  <a:srgbClr val="ffffff"/>
                </a:solidFill>
                <a:latin typeface="Arial"/>
              </a:rPr>
              <a:t>Пр.410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„Слава на Исуса!"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-пеем ние, деца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предани на Бога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с искрени сърца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292040"/>
            <a:ext cx="1008216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bg-BG" sz="3500" spc="-1" strike="noStrike">
                <a:solidFill>
                  <a:srgbClr val="ffffff"/>
                </a:solidFill>
                <a:latin typeface="Arial"/>
              </a:rPr>
              <a:t>Припев: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   „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Слава! Слава!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Слава на Исуса!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Слава! Слава!" –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пеем ние, деца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541440" y="1627200"/>
            <a:ext cx="10082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Слава на Исуса –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милостив е Цар!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Той е мир и прошка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придобил за нас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541440" y="1292040"/>
            <a:ext cx="1008216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bg-BG" sz="3500" spc="-1" strike="noStrike">
                <a:solidFill>
                  <a:srgbClr val="ffffff"/>
                </a:solidFill>
                <a:latin typeface="Arial"/>
              </a:rPr>
              <a:t>Припев: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   „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Слава! Слава!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Слава на Исуса!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Слава! Слава!" –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пеем ние, деца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379520"/>
            <a:ext cx="95774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Слава на Исуса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за благодатта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що ни обновява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мисли и дела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541440" y="1292040"/>
            <a:ext cx="1008216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bg-BG" sz="3500" spc="-1" strike="noStrike">
                <a:solidFill>
                  <a:srgbClr val="ffffff"/>
                </a:solidFill>
                <a:latin typeface="Arial"/>
              </a:rPr>
              <a:t>Припев: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   „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Слава! Слава!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Слава на Исуса!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Слава! Слава!" –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пеем ние, деца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-252360" y="1379520"/>
            <a:ext cx="95774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4. Слава на Исуса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в тоя земен бряг!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Горе ще Му пеем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Слава!" ей, во век!</a:t>
            </a: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-541440" y="1292040"/>
            <a:ext cx="1008216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bg-BG" sz="3500" spc="-1" strike="noStrike">
                <a:solidFill>
                  <a:srgbClr val="ffffff"/>
                </a:solidFill>
                <a:latin typeface="Arial"/>
              </a:rPr>
              <a:t>Припев: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   „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Слава! Слава!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Слава на Исуса!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Слава! Слава!" –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пеем ние, деца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7-10T06:27:16Z</dcterms:modified>
  <cp:revision>205</cp:revision>
  <dc:subject/>
  <dc:title>Slide 1</dc:title>
</cp:coreProperties>
</file>